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228240" y="380520"/>
            <a:ext cx="6451560" cy="483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3885840" y="88387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C59A-78E6-4D08-A378-839065B5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Text Box 26"/>
          <p:cNvSpPr/>
          <p:nvPr/>
        </p:nvSpPr>
        <p:spPr>
          <a:xfrm>
            <a:off x="380880" y="533412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TITLE/HEADING: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6840" y="5562360"/>
            <a:ext cx="6095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44"/>
          <p:cNvGrpSpPr/>
          <p:nvPr/>
        </p:nvGrpSpPr>
        <p:grpSpPr>
          <a:xfrm>
            <a:off x="457200" y="5791320"/>
            <a:ext cx="6095880" cy="3047760"/>
            <a:chOff x="457200" y="5791320"/>
            <a:chExt cx="6095880" cy="3047760"/>
          </a:xfrm>
        </p:grpSpPr>
        <p:sp>
          <p:nvSpPr>
            <p:cNvPr id="50" name="Line 33"/>
            <p:cNvSpPr/>
            <p:nvPr/>
          </p:nvSpPr>
          <p:spPr>
            <a:xfrm>
              <a:off x="457200" y="57913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1" name="Line 34"/>
            <p:cNvSpPr/>
            <p:nvPr/>
          </p:nvSpPr>
          <p:spPr>
            <a:xfrm>
              <a:off x="457200" y="609588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2" name="Line 35"/>
            <p:cNvSpPr/>
            <p:nvPr/>
          </p:nvSpPr>
          <p:spPr>
            <a:xfrm>
              <a:off x="457200" y="640080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3" name="Line 36"/>
            <p:cNvSpPr/>
            <p:nvPr/>
          </p:nvSpPr>
          <p:spPr>
            <a:xfrm>
              <a:off x="457200" y="67057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4" name="Line 37"/>
            <p:cNvSpPr/>
            <p:nvPr/>
          </p:nvSpPr>
          <p:spPr>
            <a:xfrm>
              <a:off x="457200" y="701028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" name="Line 38"/>
            <p:cNvSpPr/>
            <p:nvPr/>
          </p:nvSpPr>
          <p:spPr>
            <a:xfrm>
              <a:off x="457200" y="731520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6" name="Line 39"/>
            <p:cNvSpPr/>
            <p:nvPr/>
          </p:nvSpPr>
          <p:spPr>
            <a:xfrm>
              <a:off x="457200" y="76201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" name="Line 40"/>
            <p:cNvSpPr/>
            <p:nvPr/>
          </p:nvSpPr>
          <p:spPr>
            <a:xfrm>
              <a:off x="457200" y="792468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" name="Line 41"/>
            <p:cNvSpPr/>
            <p:nvPr/>
          </p:nvSpPr>
          <p:spPr>
            <a:xfrm>
              <a:off x="457200" y="822960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9" name="Line 42"/>
            <p:cNvSpPr/>
            <p:nvPr/>
          </p:nvSpPr>
          <p:spPr>
            <a:xfrm>
              <a:off x="457200" y="853452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0" name="Line 43"/>
            <p:cNvSpPr/>
            <p:nvPr/>
          </p:nvSpPr>
          <p:spPr>
            <a:xfrm>
              <a:off x="457200" y="883908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8390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5C2C-26C9-4C20-8120-5A925497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28600" y="380880"/>
            <a:ext cx="6451560" cy="4838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5562360"/>
            <a:ext cx="6095880" cy="32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8390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1F91-0900-4D16-9CD8-746B1FD2D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28600" y="380880"/>
            <a:ext cx="6451560" cy="4838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5562360"/>
            <a:ext cx="609588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8240"/>
            <a:ext cx="77724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82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82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368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368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82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82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8240"/>
            <a:ext cx="250236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82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82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36840"/>
            <a:ext cx="37926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8240"/>
            <a:ext cx="7772400" cy="21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ff006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63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7980480" y="6613560"/>
            <a:ext cx="87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lide #</a:t>
            </a:r>
            <a:fld id="{34B8D407-33B3-4212-8B29-4D478C88AC64}" type="slidenum">
              <a:rPr b="1" lang="en-US" sz="10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3936960" y="57240"/>
          <a:ext cx="1262160" cy="341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6960" y="57240"/>
                    <a:ext cx="12621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Rectangle 14"/>
          <p:cNvSpPr/>
          <p:nvPr/>
        </p:nvSpPr>
        <p:spPr>
          <a:xfrm>
            <a:off x="685800" y="457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520" y="2288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chnology/Content Assessment </a:t>
            </a:r>
            <a:br>
              <a:rPr sz="36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58880" y="1827360"/>
            <a:ext cx="76201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758880" y="3978360"/>
            <a:ext cx="76201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tudents Demonstrate Gains in Knowledg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2" name="Content Placeholder 3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ext Steps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view ISTE Standard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view Teacher Baseline Report (posted on Wiki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icipate in small group activity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91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Overview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s afternoon, we wil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view assessment data and discuss importance for technology project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iscuss 21</a:t>
            </a:r>
            <a:r>
              <a:rPr b="0" lang="en-US" sz="2800" spc="-1" strike="noStrike" baseline="30000">
                <a:solidFill>
                  <a:srgbClr val="ffff66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Century skills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sider different approaches to technology/content integration and assessmen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758880" y="1076400"/>
            <a:ext cx="76201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Role of Assessment for Laptop Project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tate funding requires ongoing evaluation and assessment to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ument changes in student technology us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ument changes in teaching practic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ederal and district initiatives focus o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mpact of projects on students and teache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eaching American History project requires participants to report chang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type of assessment activities are valid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alid Methods for Assessing Changes in Teacher and Student Technology U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eacher and Student Survey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terviews of participating and comparison teachers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Observations of lesson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ogs of teacher and student technology us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alid methods for assessing student content knowledg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eacher created assessment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ortfolio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ssessments produced by textbook publisher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AEP, AP and MCAS item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Have the Projects Learned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icipating teacher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port increases in technology us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port increases in content knowledg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ample of students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port increases in technology us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port increases in content knowledg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achers Report Increased  Technology Knowledge &amp; Ability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achers Report Increases in Using Laptops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acher Gain Content Knowledg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8" name="Content Placeholder 5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Teachers Increase Use of Primary Source Materials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682560" y="1530360"/>
            <a:ext cx="7778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6:57:28Z</dcterms:created>
  <dc:creator>Carol King</dc:creator>
  <dc:description/>
  <dc:language>en-US</dc:language>
  <cp:lastModifiedBy>Diane Schilder</cp:lastModifiedBy>
  <cp:lastPrinted>2008-04-07T15:37:46Z</cp:lastPrinted>
  <dcterms:modified xsi:type="dcterms:W3CDTF">2009-01-15T18:50:02Z</dcterms:modified>
  <cp:revision>278</cp:revision>
  <dc:subject/>
  <dc:title>Teaching American History   Voices Rising: Assimilation and the American Experience   Advisory Board Meeting </dc:title>
</cp:coreProperties>
</file>